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EE5F-4365-4F75-81FC-4DFF1F44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8631-AAFD-4F0D-AF42-A5102A6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8DA-1C4C-469F-951B-20974874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FDF-9D22-4538-88FB-2C505415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A7FD-41E4-46CE-930E-FADAFCA1E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80F6-AAB9-4E8F-90A9-126ABA6B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2F69-D3C0-4B19-A6F6-A11240B1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0502B-EBB0-47FE-80E3-E8DB4D06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3A58-E588-4A20-9D4C-A4F38C5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55C8-7987-4D22-9059-32C45284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A823-C1BB-432C-8B83-BB4C63F8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F8F-668B-4216-9A84-54D3C5A2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2362-FDFF-4304-89B0-F31977B4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EB7B-FB87-4EA0-A4E7-54131F8A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1EF1-4D58-444A-BBEB-2E010A95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7674-BD68-4A25-BB8B-8392E386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D2DF-611F-4401-B0AC-8362BBEB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2A1E-9F56-43B9-9991-D97AB090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215-2E5C-4675-B1A1-A9D2D6A4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82E-F52A-4F8D-8A02-FA91BA24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AF9-6C99-4DDA-BBC6-B083BC06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1846-069A-4107-876F-3247BDCA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A7EC-9A7C-47C5-A087-3E59BA7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B78-6B91-4E44-8090-36A44CCE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3B51-C6C1-4387-8D9F-EB5D1D938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5CE5-AA49-4590-868A-A562A507B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apter 11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LAVES AND MASTER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Rebellions and Uprisings, 1800–1831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DIVI7233214"/>
          <p:cNvPicPr/>
          <p:nvPr/>
        </p:nvPicPr>
        <p:blipFill>
          <a:blip r:embed="rId1"/>
          <a:stretch/>
        </p:blipFill>
        <p:spPr>
          <a:xfrm>
            <a:off x="2549520" y="1600200"/>
            <a:ext cx="4043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ree Blacks in the Old Sou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free blacks severely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 of solidarity with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unable to hel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sion increased as time pas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60, some state legislatures were proposing laws to force free blacks to emigrate or be ensla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6053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ite Society in the Antebellum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percentage of slave owners lived in aristocratic ma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than 1% of the white population owned 50 or more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uthern whites were yeomen far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Planters' Worl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 planters set tone, values of Southern lif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 wealth bas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spe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pla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s managed as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tic ideals imitated only by rich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lanters and Paternalis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prided themselves on paterna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living standard for Southern slaves than others in Western Hemi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ly decent treatment due in part to their increasing economic value after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actually dealt little with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managed by overse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olent coercion accepted by all pla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ll Slavehold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conditions worst with fewer than 20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share the master's pov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 at the complete mercy of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s often worked alongside th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laves would have preferred the economic and cultural stability of the pla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eomen Farm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farmers resented large plan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pired to plante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aw slavery as guaranteeing their own liberty and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viewed as a system for keeping blacks "in their plac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66628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 Closed Mind and a Closed Socie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feared growth of aboli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ers encouraged closing of r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defended as a positive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depicted as inferi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defended with B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a humane asylum to improve Africa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ry superior to Northern wag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ry points of view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57484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ry and the Southern Econom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outherners perceived their economic interests to be tied to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 South:  Slave plantatio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outh:  Farming and slave-trading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Internal Slave Tr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d farming in Virginia and Mary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less labor, mo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outh sold slaves to lower S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ginia, Maryland, and Kentucky took on characteristics of industrializing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al loyalty of upper South unce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Divided Society of the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Old South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lth divided white Southerners by c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ociety also divided by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society also divided with about 6%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ce divided all Southerners by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 Concentration, 182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DIVI7233220"/>
          <p:cNvPicPr/>
          <p:nvPr/>
        </p:nvPicPr>
        <p:blipFill>
          <a:blip r:embed="rId1"/>
          <a:stretch/>
        </p:blipFill>
        <p:spPr>
          <a:xfrm>
            <a:off x="1098720" y="1600200"/>
            <a:ext cx="694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Rise of the Cotton Kingd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Short-staple" cotton drove cotton b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gin made seed extraction eas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ar-round requirements suited to slave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in Georgia, South Carolina, Alabama, Mississippi, Arkansas, Louisiana, east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planters dominated cotton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50: South produced 75% of world's cotton, cotton the most important U.S.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 Concentration, 186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DIVI7233221"/>
          <p:cNvPicPr/>
          <p:nvPr/>
        </p:nvPicPr>
        <p:blipFill>
          <a:blip r:embed="rId1"/>
          <a:stretch/>
        </p:blipFill>
        <p:spPr>
          <a:xfrm>
            <a:off x="1292400" y="1600200"/>
            <a:ext cx="6559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ry and Industrializ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ers resented dependence on Northern industry, 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ers project industrial sche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proposed using free white lab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proposed the use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s worked in Southern fa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tton profits discouraged shift to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457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"Profitability" Issu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not profitable for South as a wh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small farmers had lower living standards than most Northern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ts from cotton not well-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ystem resulted in waste of human resources, Southern under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3808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orlds in Confli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Southern wor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affluent wh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bl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d together by plantation economy, web of customary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World of Southern Black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resistance of Southern ideology, r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aspiration to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sychic survi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lped create and maintain a unique African American ethn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laves’ Daily Life and Lab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% of slaves lived on plantations or f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laves on cotton plantations worked sunup to sundown, 6 days/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75% of slaves were field workers, about 5% worked in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slaves had more autonomy than rural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lave Families, Kinship, 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d Communit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family life difficult for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hers cannot always protect childr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ies vulnerable to breakup by 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red in strong, two-parent fami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ed families provide nurture, support amid horror of 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culture a family culture that provided a sense of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rican American Relig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Christianity the cornerstone of an emerging African America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s fear religion’s subversive potential, try to supervise churches and pr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religion kept secret from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ffirmed the inherent joy of li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ached the inevitable day of lib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istance and Rebell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: Gabriel Prosser rebellion fell apart because of violent st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2: Denmark Ve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-planned conspiracy for slaves to seize armory and then take Charleston s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1: Nat Turner led bloodiest and most terrifying slave revo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35–1842: 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minole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s escaped and joined Semin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Content Placeholder 6" descr="Image-9_Nat-Turner.jpeg"/>
          <p:cNvPicPr/>
          <p:nvPr/>
        </p:nvPicPr>
        <p:blipFill>
          <a:blip r:embed="rId1"/>
          <a:srcRect l="-22186" t="0" r="-22186" b="0"/>
          <a:stretch/>
        </p:blipFill>
        <p:spPr>
          <a:xfrm>
            <a:off x="4572000" y="152388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16" name="Content Placeholder 7" descr="Photo5315.jpeg"/>
          <p:cNvPicPr/>
          <p:nvPr/>
        </p:nvPicPr>
        <p:blipFill>
          <a:blip r:embed="rId2"/>
          <a:srcRect l="0" t="-5428" r="0" b="-5428"/>
          <a:stretch/>
        </p:blipFill>
        <p:spPr>
          <a:xfrm>
            <a:off x="838080" y="1676520"/>
            <a:ext cx="3886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sistance and Rebell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away often aided by the Underground Railr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-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slowdow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o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ma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ies, songs asserting 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7:02Z</dcterms:created>
  <dc:creator>CMU</dc:creator>
  <dc:description/>
  <cp:keywords/>
  <dc:language>en-US</dc:language>
  <cp:lastModifiedBy>Matthew Myers</cp:lastModifiedBy>
  <cp:lastPrinted>2012-10-11T23:32:59Z</cp:lastPrinted>
  <dcterms:modified xsi:type="dcterms:W3CDTF">2011-10-19T14:11:26Z</dcterms:modified>
  <cp:revision>12</cp:revision>
  <dc:subject/>
  <dc:title>MASTERS AND SLAVES</dc:title>
</cp:coreProperties>
</file>